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2AA9-DF46-4B0A-BC0B-3CC7B72E49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3A8C-F6D8-4E88-AB7B-F1FC3B7478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A7A4-B8E3-415B-B018-4F968558123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children become more practiced at writing stories, will need to add details about conflict and climax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91FE-733E-469D-B9D7-4336BF0621A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87C-335C-44F0-ABC9-4E26D874375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E2BA-212C-44B0-8D11-4B7A5A5A0D3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D99-AA69-4631-A94A-B09CA2CB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2A2-6398-49A2-A534-8C818C8A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D44-F5A5-4E91-B74C-38110654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DC5-F325-459B-9B0D-C45ADB3C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435-33D9-4B1F-A06D-F97DCD5B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5FE-38C6-4755-B3C3-55572693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077-E3FA-4DCB-B7F2-401930B2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9E3-136D-4FB2-BC1F-AEFBE80F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EAD-8C3E-428A-A3C6-76B65C77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F9E-2126-4AB7-9565-7A7B23A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B81-1792-4EC3-9B44-3CB9673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84A-FBFF-4B55-B9B3-B0B7ED23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3BC-7111-4C94-86E0-4267DFA7CD1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anning a sto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685800" y="1676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is is where the problem is sol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2514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re are different ways of doing this, just as there are different ways of beginning your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657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You can have a happy or sad solution or you can leave the problem unresolved as a cliff han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33520" y="4876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 lot depends upon the type of story or genre you have chos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971800" y="685800"/>
            <a:ext cx="36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Re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5720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inally, it’s time to end your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7200" y="1752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You have begun it, created and developed your characters, had a problem that has been solved, now it’s time to bring all your loose ends together and finish your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3520" y="2895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s your ending going to point to the future: </a:t>
            </a:r>
            <a:r>
              <a:rPr b="1" lang="en-GB" sz="2800" spc="-1" strike="noStrike">
                <a:solidFill>
                  <a:srgbClr val="00ffff"/>
                </a:solidFill>
                <a:latin typeface="Script MT Bold"/>
              </a:rPr>
              <a:t>the girls wondered if life would ever be the sam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3520" y="38862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re you going to make a moral point: </a:t>
            </a:r>
            <a:r>
              <a:rPr b="1" lang="en-GB" sz="2800" spc="-1" strike="noStrike">
                <a:solidFill>
                  <a:srgbClr val="00ffff"/>
                </a:solidFill>
                <a:latin typeface="Script MT Bold"/>
              </a:rPr>
              <a:t>the boys knew that they had had a lucky escape and would never meddle in other people’s problems aga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33520" y="5334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Just as you have done (hopefully) throughout your story. Include detail, description and build up an atmosphere. How do your characters feel for ex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658320" y="5335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En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447920" y="45720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member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0492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The opening must grab your readers’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8600" y="1828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Your characters must be interesting and fairly realistic They must interact with each other like people do in re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28195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The main part of the story is the problem. What is actually going to happen in your stor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8600" y="3809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You have to resolve the problem. How will you choose to do th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04920" y="4572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Finally, you end your story. Just like you did in the beginning, keep your readers attention by having an interesting end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04920" y="5638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A good plan is vital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85800" y="1752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Your story open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keep the number of characters to a minimum- only 2 o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0492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ring your characters to life through descriptions of their appearance and persona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80880" y="3048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eate some interaction between your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04920" y="3809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omething has to happen in your story;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the problem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28600" y="4419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finish your story - resolve your prob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e will go through each section of the story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80880" y="56386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lanning is vita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57200" y="9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hould grab your reader’s atten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Lucida Casual"/>
              </a:rPr>
              <a:t>Beginn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Your story can begin in different w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819520"/>
            <a:ext cx="7924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Lucida Casual"/>
              </a:rPr>
              <a:t>“ </a:t>
            </a:r>
            <a:r>
              <a:rPr b="1" lang="en-GB" sz="3600" spc="-1" strike="noStrike">
                <a:solidFill>
                  <a:srgbClr val="ffffff"/>
                </a:solidFill>
                <a:latin typeface="Lucida Casual"/>
              </a:rPr>
              <a:t>Don’t move! It’s right behind you.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Lucida Casual"/>
              </a:rPr>
              <a:t>The boy slowly turned and gasped in horr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50292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his opening puts us right into the action. This is a good strategy for adventure st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48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6858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Lucida Casual"/>
              </a:rPr>
              <a:t>The first place that I can well remember was a large pleasant meadow with a pond of clear water in it. Some shady trees leaned over it and rushes and water lilies grew at the deep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358128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s opening begins by describing the sce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Your descriptions have to paint a vivid picture for your read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5410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Lucida Casual"/>
              </a:rPr>
              <a:t>Black Beauty by Anna Sewell begins like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533520"/>
            <a:ext cx="80773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Granny Smith, an ordinary, little, old white-haired lady, resting on a seat in a public park, began to feel decidedly peculia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Granny Smith was old and her eyesight and hearing were not as good as they used to b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Suddenly a beam of blue light shot out of nowhere, it seemed, and struck the little old la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5638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Lucida Handwriting"/>
              </a:rPr>
              <a:t>This story begins with a description of the main charac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609480"/>
            <a:ext cx="7848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Handwriting"/>
              </a:rPr>
              <a:t>The iron man came to the top of the cliff. How far had he walked? Nobody knew. Where had he come from? Nobody knew. How was he made? Nobody kn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Lucida Handwriting"/>
              </a:rPr>
              <a:t>Taller than a house, the Iron Man stood at the top of the cliff, on the very brink, in the dark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762120" y="46483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Lucida Casual"/>
              </a:rPr>
              <a:t>This story starts mysteriously with a simple sentence followed by ques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Reca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" y="1676520"/>
            <a:ext cx="807732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Casual"/>
              </a:rPr>
              <a:t>You can begin your story in different ways, </a:t>
            </a:r>
            <a:r>
              <a:rPr b="0" lang="en-GB" sz="4000" spc="-1" strike="noStrike">
                <a:solidFill>
                  <a:srgbClr val="ffffff"/>
                </a:solidFill>
                <a:latin typeface="Lucida Casual"/>
              </a:rPr>
              <a:t>depending</a:t>
            </a:r>
            <a:r>
              <a:rPr b="1" lang="en-GB" sz="2400" spc="-1" strike="noStrike">
                <a:solidFill>
                  <a:srgbClr val="ffffff"/>
                </a:solidFill>
                <a:latin typeface="Lucida Casual"/>
              </a:rPr>
              <a:t> upon the type of </a:t>
            </a:r>
            <a:r>
              <a:rPr b="0" lang="en-GB" sz="4000" spc="-1" strike="noStrike">
                <a:solidFill>
                  <a:srgbClr val="ffffff"/>
                </a:solidFill>
                <a:latin typeface="Lucida Casual"/>
              </a:rPr>
              <a:t>story</a:t>
            </a:r>
            <a:r>
              <a:rPr b="1" lang="en-GB" sz="2400" spc="-1" strike="noStrike">
                <a:solidFill>
                  <a:srgbClr val="ffffff"/>
                </a:solidFill>
                <a:latin typeface="Lucida Casual"/>
              </a:rPr>
              <a:t> you want to cre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beginning in the middle of the a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describing the set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describing the main charac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starting mysteriously with ques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57200" y="1066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st authors have the luxury of several hundred pages and many chapters to create their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1905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ou however, are limited by the amount you can wr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2514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ause of this it is advisable to have no more than two main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8088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ther characters can of course be mentioned in your story, but you  must concentrate on developing your main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28600" y="4419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bring your characters to life, you must describe them: their appearance; their personalities; their strengths and weakne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st important of all, your characters must interact! They must talk to each other just like people do in real lif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990720" y="380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Main charact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04920" y="1295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s is where something has to happ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04920" y="1905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s is the problem in your story that has to be sol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80880" y="27432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nk of some stories you know and say what the problem was.For example:In Magnus Powermouse the problem is how to feed Magnus and all the adventures are connected to this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4920" y="457200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You can only have one problem! In a book there are lots of pages and chapters to write about lots of problems. You haven’t got the time for more than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539880" y="4572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Midd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10:15:49Z</dcterms:created>
  <dc:creator>Marie Cribb</dc:creator>
  <dc:description/>
  <dc:language>en-US</dc:language>
  <cp:lastModifiedBy>Mark</cp:lastModifiedBy>
  <dcterms:modified xsi:type="dcterms:W3CDTF">2015-10-01T07:52:35Z</dcterms:modified>
  <cp:revision>32</cp:revision>
  <dc:subject>Story Planning</dc:subject>
  <dc:title>PowerPoint Presentation</dc:title>
</cp:coreProperties>
</file>